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E95-7F13-4DA9-8D6E-B248022F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0EF-C5AB-4C98-AE43-426ADCD7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BC1-768B-4B91-8408-339C96B3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B95-8F55-4720-A600-65592563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885F-93D3-4541-8160-C99B00DF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DFB9-3894-4FAC-B9AF-D8EA0BC9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D3BD-1842-4F7B-A64F-EA82F8C5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F9DF-7BA1-4684-9410-29513690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D4A4-479D-4998-85AA-AC992937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3722-1A6D-462D-A5FC-C3BB627D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B22B-932B-49A5-BE89-66E6E45E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6F3-11A6-453B-A427-B953892C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2558-C7EF-4790-AA25-6654DFF7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2E48-A4EF-4386-B7B3-343EA0E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F21A-C4E6-4802-B891-4417EE12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DF39-1A29-4BE5-9B07-BC447191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ADD5-4232-4089-8F82-F9A84528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9C8-8A43-42A9-9351-8AED726A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22C-7C11-4081-8B6E-CFC150BD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CBD-33F9-498D-9D8E-F0404E65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0C3-BDB0-47D8-AB83-7D2F3404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E85-42FD-4370-88AD-E3F7FBE1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5C1-39C2-4728-8B5C-DCE3B0C1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C84-921B-4189-AA99-4A89ED05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8325-859A-4218-BF25-94BB19D468D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DA04-79F0-43E2-8C67-7D688E4634F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ell us the nam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f the British group “Beatles”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7392240" y="609552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3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656880"/>
            <a:ext cx="79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R. Star, P. McCartney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J. Lennon, G. Harri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40863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33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